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231-F8E3-43F2-AA52-B814F330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7AF-3834-4DFD-A473-3BB329A7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B2C-B587-48D8-89F5-A8421601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E24-4891-41DB-90B6-5E870E6A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852-D17B-423D-8697-605015AD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3BA-902F-4E4B-9F25-FB54D1A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A1C-02AC-4EB1-BC4D-2D311A7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0EC-883A-44A5-8CAA-7ED3815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B5B-3AC7-40EC-9F00-648DFA7E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AA1-C50C-46E4-8A21-B3FD11CA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03E-05B3-4C93-B52D-5992653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E5C-93D5-4037-9A82-3215B2A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EC5-8E2B-4B80-9EC9-3ABA0E92D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qYuuiJr2BaI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о – самый популярный вид искус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Самойлов 11 «б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76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спецэфф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42960" y="571680"/>
            <a:ext cx="80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то с не большим лет кино достигло потрясающих успехов, стало одним из популярных и любимых искус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разберемся поч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чень про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Блок-схема: решение 22"/>
          <p:cNvGrpSpPr/>
          <p:nvPr/>
        </p:nvGrpSpPr>
        <p:grpSpPr>
          <a:xfrm>
            <a:off x="2955960" y="5138640"/>
            <a:ext cx="3371760" cy="1743120"/>
            <a:chOff x="2955960" y="5138640"/>
            <a:chExt cx="3371760" cy="1743120"/>
          </a:xfrm>
        </p:grpSpPr>
        <p:pic>
          <p:nvPicPr>
            <p:cNvPr id="45" name="Блок-схема: решение 22" descr=""/>
            <p:cNvPicPr/>
            <p:nvPr/>
          </p:nvPicPr>
          <p:blipFill>
            <a:blip r:embed="rId2"/>
            <a:stretch/>
          </p:blipFill>
          <p:spPr>
            <a:xfrm>
              <a:off x="2955960" y="5138640"/>
              <a:ext cx="33717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21040" y="5594400"/>
              <a:ext cx="164484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Блок-схема: решение 21"/>
          <p:cNvGrpSpPr/>
          <p:nvPr/>
        </p:nvGrpSpPr>
        <p:grpSpPr>
          <a:xfrm>
            <a:off x="5956200" y="109440"/>
            <a:ext cx="2925720" cy="1670040"/>
            <a:chOff x="5956200" y="109440"/>
            <a:chExt cx="2925720" cy="1670040"/>
          </a:xfrm>
        </p:grpSpPr>
        <p:pic>
          <p:nvPicPr>
            <p:cNvPr id="48" name="Блок-схема: решение 21" descr=""/>
            <p:cNvPicPr/>
            <p:nvPr/>
          </p:nvPicPr>
          <p:blipFill>
            <a:blip r:embed="rId3"/>
            <a:stretch/>
          </p:blipFill>
          <p:spPr>
            <a:xfrm>
              <a:off x="5956200" y="109440"/>
              <a:ext cx="29257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11840" y="546120"/>
              <a:ext cx="14209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Блок-схема: решение 17"/>
          <p:cNvGrpSpPr/>
          <p:nvPr/>
        </p:nvGrpSpPr>
        <p:grpSpPr>
          <a:xfrm>
            <a:off x="311040" y="109440"/>
            <a:ext cx="3084480" cy="1603440"/>
            <a:chOff x="311040" y="109440"/>
            <a:chExt cx="3084480" cy="1603440"/>
          </a:xfrm>
        </p:grpSpPr>
        <p:pic>
          <p:nvPicPr>
            <p:cNvPr id="51" name="Блок-схема: решение 17" descr=""/>
            <p:cNvPicPr/>
            <p:nvPr/>
          </p:nvPicPr>
          <p:blipFill>
            <a:blip r:embed="rId4"/>
            <a:stretch/>
          </p:blipFill>
          <p:spPr>
            <a:xfrm>
              <a:off x="311040" y="109440"/>
              <a:ext cx="30844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106640" y="528480"/>
              <a:ext cx="15001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2960" y="500040"/>
            <a:ext cx="80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2"/>
          <p:cNvGrpSpPr/>
          <p:nvPr/>
        </p:nvGrpSpPr>
        <p:grpSpPr>
          <a:xfrm>
            <a:off x="3279600" y="2182680"/>
            <a:ext cx="2651400" cy="1719360"/>
            <a:chOff x="3279600" y="2182680"/>
            <a:chExt cx="2651400" cy="1719360"/>
          </a:xfrm>
        </p:grpSpPr>
        <p:pic>
          <p:nvPicPr>
            <p:cNvPr id="55" name="Овал 2" descr=""/>
            <p:cNvPicPr/>
            <p:nvPr/>
          </p:nvPicPr>
          <p:blipFill>
            <a:blip r:embed="rId5"/>
            <a:stretch/>
          </p:blipFill>
          <p:spPr>
            <a:xfrm>
              <a:off x="3279600" y="2182680"/>
              <a:ext cx="26514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724200" y="2443320"/>
              <a:ext cx="176688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5a2406"/>
                  </a:solidFill>
                  <a:latin typeface="Arial"/>
                </a:rPr>
                <a:t>ки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Стрелка влево 4"/>
          <p:cNvSpPr/>
          <p:nvPr/>
        </p:nvSpPr>
        <p:spPr>
          <a:xfrm rot="2399400">
            <a:off x="2509560" y="200340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лево 5"/>
          <p:cNvSpPr/>
          <p:nvPr/>
        </p:nvSpPr>
        <p:spPr>
          <a:xfrm rot="8467200">
            <a:off x="5763960" y="1917720"/>
            <a:ext cx="998280" cy="57312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9158040" y="-5238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оступ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лево 13"/>
          <p:cNvSpPr/>
          <p:nvPr/>
        </p:nvSpPr>
        <p:spPr>
          <a:xfrm rot="16200000">
            <a:off x="4145760" y="4212000"/>
            <a:ext cx="996840" cy="5731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-1895760" y="-5238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релищ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3357720" y="6858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Многожан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0.03843 L 0.29965 0.16042 E">
                                      <p:cBhvr>
                                        <p:cTn id="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2 0.03843 L -0.28629 0.17084 E">
                                      <p:cBhvr>
                                        <p:cTn id="1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00018 -0.1706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14240" y="499680"/>
            <a:ext cx="8043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елищность в кино связана с использованием спецэфф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е спецэффект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п-кадр и двойная экс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ись в далёко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02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режиссёр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Жорж Мелье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мал «Путешествие на Лун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,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27 году Фриц Лан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ё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ркальный метод съё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й совмещать в одном кадре миниатюрные объекты и реальных действующ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нозритель не всегда воспринимал спецэффекты. Так,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33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лла из фильм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Кинг Конг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ела на публику такое впечатление, что некоторые сцены пришлось немедленно вырез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91203"/>
                </a:solidFill>
                <a:latin typeface="Arial"/>
              </a:rPr>
              <a:t>Зрелищ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-360"/>
            <a:ext cx="8043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ым событием мира кино стал выход грандиозной эпопе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Звёздные войны» (1977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ъёмок космических кораб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был применён компью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правлявший кинокамерами. Далее в хронологическом порядке появилс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Терминатор 2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мещение 3D-объекта с реальным актёром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Скалолаз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цифровая ретушь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Матрица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ольшое количество камер дало возможность сымитировать вращение Не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2005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и Walt Disney и Pixar выпустили в с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полнометражный 3D-мультфиль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История игрушек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не вспомнить и филь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Аватар» (2009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вший настоящей сенсацией киноинду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волюция спецэфф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омой 3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3268800"/>
            <a:ext cx="4786200" cy="3589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3280" y="3143160"/>
            <a:ext cx="4500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, что ему смотреть. Достаточно просто купить лицензионный диск и устроится поудобнее на диване. Развит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нтер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явле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нлайн кинозал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ила необходимость покупки 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91203"/>
                </a:solidFill>
                <a:latin typeface="Arial"/>
              </a:rPr>
              <a:t>Доступ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4200" y="500040"/>
            <a:ext cx="85010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ноискусство в начале своего развития не многим отличалось от театра, но затем, после появления телевидения, ситуация резко измен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ьная труппа не придет к вам домой, что бы показать свое представление, а кино пришло.  Затем появилис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еомагнитофоны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плееры, домашние кинотеа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человек уже сам 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если вы все таки решили сходить в кинотеатр, то найти наиболее удобный не составит труда, поскольку с каждым годом их становиться все больше и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7" descr=""/>
          <p:cNvPicPr/>
          <p:nvPr/>
        </p:nvPicPr>
        <p:blipFill>
          <a:blip r:embed="rId2"/>
          <a:stretch/>
        </p:blipFill>
        <p:spPr>
          <a:xfrm>
            <a:off x="457200" y="1571760"/>
            <a:ext cx="8400960" cy="4554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800320" y="457200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жанр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юди разные, но каждый человек может найти себе фильм по вкусу, благодаря широкому спектру жан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, например,  любят комедии и мультфильмы. Женщины любят мелодрамы, драмы, чтобы они плакали от фильмов. Мужчины смотрят боевики, триллеры, ужасы. У каждого человека есть свои любимые жан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условиям опроса независимой исследовательской компании Mo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рители должны были оценить жанры кинофильмов по 5-ти балльной шкале. В диаграмме приведены средние значения полученных оце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пулярными жанрами стали комедия и приключения. Самый неоднозначный жанр - арт-хаус. Этот жанр не является массовым, у него есть своя специфическая аудито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5871600" y="257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е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9:29Z</dcterms:created>
  <dc:creator>Admin</dc:creator>
  <dc:description/>
  <cp:keywords/>
  <dc:language>en-US</dc:language>
  <cp:lastModifiedBy>Admin</cp:lastModifiedBy>
  <dcterms:modified xsi:type="dcterms:W3CDTF">2011-04-23T12:22:05Z</dcterms:modified>
  <cp:revision>100</cp:revision>
  <dc:subject/>
  <dc:title>Кино – самый популярный вид искус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067</vt:lpwstr>
  </property>
</Properties>
</file>